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6.png" ContentType="image/png"/>
  <Override PartName="/ppt/media/image7.jpeg" ContentType="image/jpeg"/>
  <Override PartName="/ppt/media/image3.jpeg" ContentType="image/jpeg"/>
  <Override PartName="/ppt/media/image4.gif" ContentType="image/gif"/>
  <Override PartName="/ppt/media/image5.jpeg" ContentType="image/jpeg"/>
  <Override PartName="/ppt/media/image11.gif" ContentType="image/gif"/>
  <Override PartName="/ppt/media/image8.gif" ContentType="image/gif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F55B-A982-41F7-854F-4E23CCB4D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110C-5749-4F22-ADFB-944794E4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2137-B65D-48C0-BDAC-E8DFFB6B8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940D-F9D9-4677-B9A6-B2B23926D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85C7-4A61-4A1C-B3FB-FEC20942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2B5C-53CC-4DF8-AD07-DBFD63F9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F56D-97BB-4293-9B74-EA2965CA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75A6-DF66-4FB8-800D-6419AE48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ADBE-5A2D-414A-820F-5631D40A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6726-6046-45C9-8D9D-430AE3C8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F38A-559C-4EA5-A165-BB5DEFB4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FB6F-4C9C-442C-B460-DCB5C48E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6FCF-6A6A-4D47-9906-457FF97E7F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Мир Наруто"/>
          <p:cNvPicPr/>
          <p:nvPr/>
        </p:nvPicPr>
        <p:blipFill>
          <a:blip r:embed="rId1"/>
          <a:stretch/>
        </p:blipFill>
        <p:spPr>
          <a:xfrm>
            <a:off x="250920" y="1268280"/>
            <a:ext cx="889308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изводительность подаваемого материала увеличивается, если одновременно задействованы зрительный и слуховой каналы восприятия информации (зарубежные источники это называют принципом модальности). Поэтому рекомендуется там, где это возможно, использовать для текста и графических изображений звуковое сопровождение. Исследования свидетельствуют, что эффективность слухового восприятия информации составляет 15 %, зрительного — 25 %, а их одновременное привлечение к процессу обучения повышает эффективность восприятия до 65 %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Лучшее сочетан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цветов шрифта и фона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Антитез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Фигура, состоящая в сопоставлении логически противоположных понятий или образов. 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Промышленно-торговая компания &quot;Плитпром&quot; // Белый фон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773800" y="549360"/>
            <a:ext cx="2942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Антитез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58920" y="1628640"/>
            <a:ext cx="6138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Фигура, состояща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в сопоставлен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логическ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противоположны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понятий или образ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Анимированные фоны(анимация на черном фоне). . Обсуждение на LiveInternet - Российский Сервис Онлайн-Дневников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71640" y="404640"/>
            <a:ext cx="30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6600"/>
                </a:solidFill>
                <a:uFillTx/>
                <a:latin typeface="Arial"/>
              </a:rPr>
              <a:t>Антитез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1494000"/>
            <a:ext cx="7848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Arial"/>
              </a:rPr>
              <a:t>Фигура, состояща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Arial"/>
              </a:rPr>
              <a:t>в сопоставлен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Arial"/>
              </a:rPr>
              <a:t>логическ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Arial"/>
              </a:rPr>
              <a:t>противоположны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Arial"/>
              </a:rPr>
              <a:t>понятий или образ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Фото обои текстура, обои для рабочего стола, фон, текстуры, Синий, Текстуры для рабочего стола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38000" y="196920"/>
            <a:ext cx="32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00"/>
                </a:solidFill>
                <a:uFillTx/>
                <a:latin typeface="Arial"/>
              </a:rPr>
              <a:t>Антитез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91600" y="1700280"/>
            <a:ext cx="6677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Фигура, состояща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в сопоставлен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логическ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противоположны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понятий или образ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Это интересно Сайт учителя МХК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247840" y="333360"/>
            <a:ext cx="383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Антитез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71640" y="1565280"/>
            <a:ext cx="7099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Фигура, состояща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в сопоставлен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логическ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противоположны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понятий или образ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Четкие, яркие рисунки, которые меняются,  легко «охватывают» подсознание, и они лучше запоминаются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мните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еловек может одновременно запоминать не более трех фактов, выводов, определ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ждый слайд должен отражать одну мысл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екст должен состоять из коротких слов и простых предлож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мни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трока должна содержать 6-8 сл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сего на слайде должно быть 6-8 стр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бщее количество слов не должно превышать 5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exclamation mark animation image search results"/>
          <p:cNvPicPr/>
          <p:nvPr/>
        </p:nvPicPr>
        <p:blipFill>
          <a:blip r:embed="rId1"/>
          <a:stretch/>
        </p:blipFill>
        <p:spPr>
          <a:xfrm>
            <a:off x="7591320" y="115920"/>
            <a:ext cx="15526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мни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Глаголы должны быть в одной временной форм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аголовки должны привлекать внимание аудитории и обобщать основные положения слай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заголовках должны быть и большие, и малые букв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yuliya-gurber - альбом &quot;Анимация - открытки / Хорошего настроения&quot; на Яндекс.Фотках"/>
          <p:cNvPicPr/>
          <p:nvPr/>
        </p:nvPicPr>
        <p:blipFill>
          <a:blip r:embed="rId1"/>
          <a:stretch/>
        </p:blipFill>
        <p:spPr>
          <a:xfrm>
            <a:off x="1116000" y="-1908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мни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лайды должны быть не слишком яркими — лишние украшения лишь создают барьер на пути эффективной передачи информа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дписи к иллюстрации размещаются под ней, а не над н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се слайды презентации должны быть выдержаны в одном сти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Красивое утро Картинки про утро для вконтакте, одноклассников, с кодами для вставки в гостевую, скачать бесплатно на рабочий сто"/>
          <p:cNvPicPr/>
          <p:nvPr/>
        </p:nvPicPr>
        <p:blipFill>
          <a:blip r:embed="rId1"/>
          <a:stretch/>
        </p:blipFill>
        <p:spPr>
          <a:xfrm>
            <a:off x="6516720" y="24922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ПОСЛЕ БАЛА"/>
          <p:cNvPicPr/>
          <p:nvPr/>
        </p:nvPicPr>
        <p:blipFill>
          <a:blip r:embed="rId1"/>
          <a:stretch/>
        </p:blipFill>
        <p:spPr>
          <a:xfrm>
            <a:off x="1763640" y="907920"/>
            <a:ext cx="5329440" cy="50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Анимашки Надписи от 3550 до 3600"/>
          <p:cNvPicPr/>
          <p:nvPr/>
        </p:nvPicPr>
        <p:blipFill>
          <a:blip r:embed="rId1"/>
          <a:stretch/>
        </p:blipFill>
        <p:spPr>
          <a:xfrm>
            <a:off x="539640" y="1052640"/>
            <a:ext cx="745200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Сколько-сколько мне стукнуло?. . Обсуждение на LiveInternet - Российский Сервис Онлайн-Дневников"/>
          <p:cNvPicPr/>
          <p:nvPr/>
        </p:nvPicPr>
        <p:blipFill>
          <a:blip r:embed="rId1"/>
          <a:stretch/>
        </p:blipFill>
        <p:spPr>
          <a:xfrm>
            <a:off x="97164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915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Основное правило презентаций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сто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аконичность (минимализм в подаче визуальной информации).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раткое изложение матери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аксимальная информативность текст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правила презентац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итабельность (видимость из самых дальних уголков помещения и с различных устройств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тсутствие накопления, четкий порядок во вс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щательно структурированная информац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личие коротких и лаконичных заголовков, маркированных и нумерованных списк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ажную информацию (например, выводы, определения, правила и т.д.) нужно подавать большим и выделенным шрифтом и размещать в левом верхнем углу слайд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торостепенную информацию желательно размещать внизу слайд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ждому положению (идее) надо отвести отдельный абзац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Главную идею надо выложить в первой строке абзац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4358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спользовать табличные формы представления информации (диаграммы, схемы) для иллюстрации важнейших фактов, что даст возможность подать материал компактно и наглядн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Графика должна органично дополнять текс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бъяснение надо размещать как можно ближе к иллюстраций, с которыми они должны появляться на экране одновремен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нструкции к выполнению задач необходимо тщательно продумать относительно их четкости, лаконичности, однознач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спользовать эмоциональный фон (художественная проза запоминается лучше, чем специальные тексты, а стихи — лучше, чем проза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сю текстовую информацию нужно тщательно проверить на отсутствие орфографических, грамматических и стилистических ошиб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30T19:54:46Z</dcterms:created>
  <dc:creator>Админ</dc:creator>
  <dc:description/>
  <dc:language>en-US</dc:language>
  <cp:lastModifiedBy>02</cp:lastModifiedBy>
  <dcterms:modified xsi:type="dcterms:W3CDTF">2016-04-20T09:43:46Z</dcterms:modified>
  <cp:revision>2</cp:revision>
  <dc:subject/>
  <dc:title>Слайд 1</dc:title>
</cp:coreProperties>
</file>